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0626-045D-423C-841C-19E490D3A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EA75-51FD-4679-A279-F21E40D0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86BF-2034-4C8C-86C0-C5A71A1DC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35B6-72B7-493B-AD8E-25A2934C3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80B6-51F0-400F-8C7A-B86F314B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14F8-487C-4E23-92AD-7B5A4BB4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EDBF-AFD7-4A1D-9398-6715CEE0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8A4C-6DEA-4606-9EFC-EDCF592A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E5C0-A1C6-4949-B1AB-14B466AB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434F-5C2B-4184-9D1C-E4077267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BB51-A768-480C-B2AA-9ACD19E4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8484-2874-42B1-A9D9-2CAB5C7B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498791-C720-482F-8270-41E2589F95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3424FB-839B-421D-9AB6-98F99CE93E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Very Hungry Caterpill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Eric Car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685800" y="4711680"/>
            <a:ext cx="330192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He ate a nice big green leaf and that made him feel much better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ontent Placeholder 3" descr="AA026357.png"/>
          <p:cNvPicPr/>
          <p:nvPr/>
        </p:nvPicPr>
        <p:blipFill>
          <a:blip r:embed="rId1"/>
          <a:srcRect l="-52298" t="0" r="-52298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e wasn’t hungry anymore, he was very big! He went into a cocoon where he stayed for a few weeks. He pushed his way out and soon he was a beautiful butterfly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442116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little egg lay on a leaf in the moonligh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Content Placeholder 6" descr="1215441639398169310Fredoguy_Leaf.svg.med.png"/>
          <p:cNvPicPr/>
          <p:nvPr/>
        </p:nvPicPr>
        <p:blipFill>
          <a:blip r:embed="rId1"/>
          <a:srcRect l="-46015" t="0" r="-46015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6" name="Oval 3"/>
          <p:cNvSpPr/>
          <p:nvPr/>
        </p:nvSpPr>
        <p:spPr>
          <a:xfrm>
            <a:off x="4878360" y="4281480"/>
            <a:ext cx="506520" cy="4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Sunday, a caterpillar came out of the egg and was very hungr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j0197570.wmf"/>
          <p:cNvPicPr/>
          <p:nvPr/>
        </p:nvPicPr>
        <p:blipFill>
          <a:blip r:embed="rId1"/>
          <a:srcRect l="-26659" t="0" r="-26659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Monday, he ate one apple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AA026359.png"/>
          <p:cNvPicPr/>
          <p:nvPr/>
        </p:nvPicPr>
        <p:blipFill>
          <a:blip r:embed="rId1"/>
          <a:srcRect l="-40461" t="0" r="-40461" b="0"/>
          <a:stretch/>
        </p:blipFill>
        <p:spPr>
          <a:xfrm>
            <a:off x="1905120" y="1600200"/>
            <a:ext cx="5541840" cy="304812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914400" y="51055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t he was still hungr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Tuesday, he ate two pears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5" descr="1226202176310191088matou_pear.svg.hi.png"/>
          <p:cNvPicPr/>
          <p:nvPr/>
        </p:nvPicPr>
        <p:blipFill>
          <a:blip r:embed="rId1"/>
          <a:srcRect l="-99046" t="0" r="-99046" b="0"/>
          <a:stretch/>
        </p:blipFill>
        <p:spPr>
          <a:xfrm>
            <a:off x="228600" y="1600200"/>
            <a:ext cx="5661000" cy="27432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1143000" y="57150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t he was still hungr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Content Placeholder 5" descr="1226202176310191088matou_pear.svg.hi.png"/>
          <p:cNvPicPr/>
          <p:nvPr/>
        </p:nvPicPr>
        <p:blipFill>
          <a:blip r:embed="rId2"/>
          <a:srcRect l="-99046" t="0" r="-99046" b="0"/>
          <a:stretch/>
        </p:blipFill>
        <p:spPr>
          <a:xfrm>
            <a:off x="3211560" y="1600200"/>
            <a:ext cx="5661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Wednesday, he ate three plums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5" descr="images-1.jpeg"/>
          <p:cNvPicPr/>
          <p:nvPr/>
        </p:nvPicPr>
        <p:blipFill>
          <a:blip r:embed="rId1"/>
          <a:srcRect l="-99622" t="0" r="-99622" b="0"/>
          <a:stretch/>
        </p:blipFill>
        <p:spPr>
          <a:xfrm>
            <a:off x="457200" y="1600200"/>
            <a:ext cx="7391520" cy="3581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1143000" y="57150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t he was still hungr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Thursday, he ate four strawberries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143000" y="57150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t he was still hungr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Content Placeholder 7" descr="strawberry.jpg"/>
          <p:cNvPicPr/>
          <p:nvPr/>
        </p:nvPicPr>
        <p:blipFill>
          <a:blip r:embed="rId1"/>
          <a:srcRect l="-18178" t="0" r="-18178" b="0"/>
          <a:stretch/>
        </p:blipFill>
        <p:spPr>
          <a:xfrm>
            <a:off x="457200" y="1600200"/>
            <a:ext cx="3602160" cy="198108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7" descr="strawberry.jpg"/>
          <p:cNvPicPr/>
          <p:nvPr/>
        </p:nvPicPr>
        <p:blipFill>
          <a:blip r:embed="rId2"/>
          <a:srcRect l="-18178" t="0" r="-18178" b="0"/>
          <a:stretch/>
        </p:blipFill>
        <p:spPr>
          <a:xfrm>
            <a:off x="3581280" y="1600200"/>
            <a:ext cx="3602160" cy="198108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7" descr="strawberry.jpg"/>
          <p:cNvPicPr/>
          <p:nvPr/>
        </p:nvPicPr>
        <p:blipFill>
          <a:blip r:embed="rId3"/>
          <a:srcRect l="-18178" t="0" r="-18178" b="0"/>
          <a:stretch/>
        </p:blipFill>
        <p:spPr>
          <a:xfrm>
            <a:off x="609480" y="3581280"/>
            <a:ext cx="3602160" cy="198144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7" descr="strawberry.jpg"/>
          <p:cNvPicPr/>
          <p:nvPr/>
        </p:nvPicPr>
        <p:blipFill>
          <a:blip r:embed="rId4"/>
          <a:srcRect l="-18178" t="0" r="-18178" b="0"/>
          <a:stretch/>
        </p:blipFill>
        <p:spPr>
          <a:xfrm>
            <a:off x="3581280" y="3581280"/>
            <a:ext cx="36021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Friday, he ate five oranges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Content Placeholder 5" descr="AA026348.png"/>
          <p:cNvPicPr/>
          <p:nvPr/>
        </p:nvPicPr>
        <p:blipFill>
          <a:blip r:embed="rId1"/>
          <a:srcRect l="-21537" t="0" r="-21537" b="0"/>
          <a:stretch/>
        </p:blipFill>
        <p:spPr>
          <a:xfrm>
            <a:off x="914400" y="1600200"/>
            <a:ext cx="2044800" cy="9907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1143000" y="57150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t he was still hungr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Content Placeholder 5" descr="AA026348.png"/>
          <p:cNvPicPr/>
          <p:nvPr/>
        </p:nvPicPr>
        <p:blipFill>
          <a:blip r:embed="rId2"/>
          <a:srcRect l="-21537" t="0" r="-21537" b="0"/>
          <a:stretch/>
        </p:blipFill>
        <p:spPr>
          <a:xfrm>
            <a:off x="3187800" y="1600200"/>
            <a:ext cx="2044440" cy="99072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5" descr="AA026348.png"/>
          <p:cNvPicPr/>
          <p:nvPr/>
        </p:nvPicPr>
        <p:blipFill>
          <a:blip r:embed="rId3"/>
          <a:srcRect l="-21537" t="0" r="-21537" b="0"/>
          <a:stretch/>
        </p:blipFill>
        <p:spPr>
          <a:xfrm>
            <a:off x="5346720" y="1600200"/>
            <a:ext cx="2044800" cy="99072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5" descr="AA026348.png"/>
          <p:cNvPicPr/>
          <p:nvPr/>
        </p:nvPicPr>
        <p:blipFill>
          <a:blip r:embed="rId4"/>
          <a:srcRect l="-21537" t="0" r="-21537" b="0"/>
          <a:stretch/>
        </p:blipFill>
        <p:spPr>
          <a:xfrm>
            <a:off x="2438280" y="3200400"/>
            <a:ext cx="204480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5" descr="AA026348.png"/>
          <p:cNvPicPr/>
          <p:nvPr/>
        </p:nvPicPr>
        <p:blipFill>
          <a:blip r:embed="rId5"/>
          <a:srcRect l="-21537" t="0" r="-21537" b="0"/>
          <a:stretch/>
        </p:blipFill>
        <p:spPr>
          <a:xfrm>
            <a:off x="4940280" y="3200400"/>
            <a:ext cx="20448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Saturday, he ate one slice of chocolate cake, 1 ice cream cone, 1 pickle, 1 slice of cheese, 1 slice of salami, 1 lollipop, 1 slice of cherry pie, 1 sausage, 1 cupcake and a slice of watermel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Content Placeholder 4" descr="img_a0913003aa1.jpg"/>
          <p:cNvPicPr/>
          <p:nvPr/>
        </p:nvPicPr>
        <p:blipFill>
          <a:blip r:embed="rId1"/>
          <a:srcRect l="-23820" t="0" r="-23820" b="0"/>
          <a:stretch/>
        </p:blipFill>
        <p:spPr>
          <a:xfrm>
            <a:off x="-193680" y="1638360"/>
            <a:ext cx="2494080" cy="137160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762120" y="61261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he had a stomachach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swiss-cheese-wedge-2.png"/>
          <p:cNvPicPr/>
          <p:nvPr/>
        </p:nvPicPr>
        <p:blipFill>
          <a:blip r:embed="rId2"/>
          <a:stretch/>
        </p:blipFill>
        <p:spPr>
          <a:xfrm>
            <a:off x="5576760" y="1494000"/>
            <a:ext cx="1578240" cy="1554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pink cupcake clip art.png"/>
          <p:cNvPicPr/>
          <p:nvPr/>
        </p:nvPicPr>
        <p:blipFill>
          <a:blip r:embed="rId3"/>
          <a:stretch/>
        </p:blipFill>
        <p:spPr>
          <a:xfrm>
            <a:off x="5594400" y="3370320"/>
            <a:ext cx="1281240" cy="1700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pickle1.gif"/>
          <p:cNvPicPr/>
          <p:nvPr/>
        </p:nvPicPr>
        <p:blipFill>
          <a:blip r:embed="rId4"/>
          <a:stretch/>
        </p:blipFill>
        <p:spPr>
          <a:xfrm>
            <a:off x="3429000" y="1638360"/>
            <a:ext cx="1587600" cy="1409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Clipart3 salami.bmp"/>
          <p:cNvPicPr/>
          <p:nvPr/>
        </p:nvPicPr>
        <p:blipFill>
          <a:blip r:embed="rId5"/>
          <a:stretch/>
        </p:blipFill>
        <p:spPr>
          <a:xfrm>
            <a:off x="7715160" y="1905120"/>
            <a:ext cx="914400" cy="583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11949861622120185071pie_cherry.svg.hi.png"/>
          <p:cNvPicPr/>
          <p:nvPr/>
        </p:nvPicPr>
        <p:blipFill>
          <a:blip r:embed="rId6"/>
          <a:stretch/>
        </p:blipFill>
        <p:spPr>
          <a:xfrm>
            <a:off x="2300400" y="3546360"/>
            <a:ext cx="1487520" cy="995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11971009421578933719mcol_sausage.svg.med.png"/>
          <p:cNvPicPr/>
          <p:nvPr/>
        </p:nvPicPr>
        <p:blipFill>
          <a:blip r:embed="rId7"/>
          <a:stretch/>
        </p:blipFill>
        <p:spPr>
          <a:xfrm>
            <a:off x="3787920" y="3414600"/>
            <a:ext cx="1806480" cy="1656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11949862191719670978watermelon_simple.svg.med.png"/>
          <p:cNvPicPr/>
          <p:nvPr/>
        </p:nvPicPr>
        <p:blipFill>
          <a:blip r:embed="rId8"/>
          <a:stretch/>
        </p:blipFill>
        <p:spPr>
          <a:xfrm>
            <a:off x="7155000" y="3546360"/>
            <a:ext cx="1722240" cy="1366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550px-Jonata_Lollipop.svg.png"/>
          <p:cNvPicPr/>
          <p:nvPr/>
        </p:nvPicPr>
        <p:blipFill>
          <a:blip r:embed="rId9"/>
          <a:stretch/>
        </p:blipFill>
        <p:spPr>
          <a:xfrm>
            <a:off x="152280" y="3546360"/>
            <a:ext cx="2148120" cy="1366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cone1.jpg"/>
          <p:cNvPicPr/>
          <p:nvPr/>
        </p:nvPicPr>
        <p:blipFill>
          <a:blip r:embed="rId10"/>
          <a:stretch/>
        </p:blipFill>
        <p:spPr>
          <a:xfrm>
            <a:off x="2300400" y="1638360"/>
            <a:ext cx="799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8:41:04Z</dcterms:created>
  <dc:creator>Lisa Leve</dc:creator>
  <dc:description/>
  <dc:language>en-US</dc:language>
  <cp:lastModifiedBy>Lisa Leve</cp:lastModifiedBy>
  <dcterms:modified xsi:type="dcterms:W3CDTF">2010-03-16T19:11:53Z</dcterms:modified>
  <cp:revision>12</cp:revision>
  <dc:subject/>
  <dc:title>Slide 1</dc:title>
</cp:coreProperties>
</file>