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8A30-AED3-4EAE-AB30-7DA92ADFB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72F9-BBD5-4DE2-A5AC-BAEAE835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31E1-6115-413C-B9E5-249B35E7F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CA22-0541-46DD-9AF9-7B1A149B1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F4B2-2FDD-4103-8FD4-F31D8494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B75D-E96C-4A3B-A9F1-8ABB369B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333B-D0E8-459D-9A1D-7B172224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EA9A-2202-4DCE-91E4-AF2B7A43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C685-4D3A-4674-B6A9-479E7F2C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DAF9-1A09-4055-8023-3F9E7CBC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DA1F-2C93-486F-8980-DBE4AAA9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673F-5E52-4AB0-9AEC-D2594946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F9E6-FC26-48FB-9E4A-7AB598E32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Your Nam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219320" y="2133720"/>
            <a:ext cx="6629400" cy="155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36147" dir="2700000" blurRad="0" rotWithShape="0">
                    <a:srgbClr val="c0c0c0"/>
                  </a:outerShdw>
                </a:effectLst>
                <a:latin typeface="Cooper Black"/>
              </a:rPr>
              <a:t>My Color Book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36147" dir="2700000" blurRad="0" rotWithShape="0">
                  <a:srgbClr val="c0c0c0"/>
                </a:outerShdw>
              </a:effectLst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is the color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8280" y="838080"/>
            <a:ext cx="3810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Orang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the color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666880" y="1371600"/>
            <a:ext cx="3810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llow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the color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438280" y="1066680"/>
            <a:ext cx="3810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en</a:t>
            </a: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the color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42840" y="9907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ue is the color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90560" y="91440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le is the color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61960" y="91440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nk is the color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14240" y="9907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9:03:58Z</dcterms:created>
  <dc:creator>BTSD BTSD</dc:creator>
  <dc:description/>
  <dc:language>en-US</dc:language>
  <cp:lastModifiedBy>Lisa Leve</cp:lastModifiedBy>
  <dcterms:modified xsi:type="dcterms:W3CDTF">2010-04-06T14:51:48Z</dcterms:modified>
  <cp:revision>7</cp:revision>
  <dc:subject/>
  <dc:title>PowerPoint Presentation</dc:title>
</cp:coreProperties>
</file>