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EE0D-FEE3-476A-A1E7-E85D40A54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B520-B57E-44C8-B88B-53AC3167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A8F8-22FD-4B26-8C93-455C0280B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952B-A37A-4D34-A6A6-CD862BA01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5EA9-455F-43D8-8EF7-5AD61D52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A44E-34C1-48E6-9E77-66602369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07D7-B4BC-41F2-94B8-6072C7DF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7A2A-9D9D-4EF8-BDB6-FD1508D7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FDED-3AF1-4629-AE6F-E23A1898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7A03-B45D-4306-8807-B47935BE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C10C-BF42-40F4-A593-3876DDB7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76DF-8A09-450C-B87F-391389AF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196F-3705-4A3D-8FC6-377CF319C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Your Nam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219320" y="2133720"/>
            <a:ext cx="6629400" cy="155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36147" dir="2700000" blurRad="0" rotWithShape="0">
                    <a:srgbClr val="c0c0c0"/>
                  </a:outerShdw>
                </a:effectLst>
                <a:latin typeface="Cooper Black"/>
              </a:rPr>
              <a:t>My Color Book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36147" dir="2700000" blurRad="0" rotWithShape="0">
                  <a:srgbClr val="c0c0c0"/>
                </a:outerShdw>
              </a:effectLst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is the color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8280" y="838080"/>
            <a:ext cx="3810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Orang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the color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666880" y="1371600"/>
            <a:ext cx="3810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llow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the color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438280" y="1066680"/>
            <a:ext cx="3810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en</a:t>
            </a: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the color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42840" y="9907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ue is the color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90560" y="91440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le is the color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61960" y="91440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nk is the color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14240" y="9907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9:03:58Z</dcterms:created>
  <dc:creator>BTSD BTSD</dc:creator>
  <dc:description/>
  <dc:language>en-US</dc:language>
  <cp:lastModifiedBy>Lisa Leve</cp:lastModifiedBy>
  <dcterms:modified xsi:type="dcterms:W3CDTF">2010-04-06T14:51:48Z</dcterms:modified>
  <cp:revision>7</cp:revision>
  <dc:subject/>
  <dc:title>PowerPoint Presentation</dc:title>
</cp:coreProperties>
</file>