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6D7-0E60-439F-AB6B-FE409AA9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EF4-750D-4292-8DD0-699672D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549-B207-42A2-B9C9-1552F57C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CBB-362E-4C30-A8B2-E0A99D00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831-7E46-4CF0-9C83-CF3F924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26E-4472-4F4A-9E2C-81354C0B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C58-7AE7-4D3A-8CF6-3E7153E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EE4-2A23-4C5E-865F-88D948D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373-7E2E-4893-8E84-AE73521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ECA-09AF-4BE9-B0AE-97B6E98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C58-BFB6-455C-90FE-D4656452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817-C235-497B-9CD2-A065011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8E4E-DE66-43BA-AE80-F9003998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2133720"/>
            <a:ext cx="662940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Cooper Black"/>
              </a:rPr>
              <a:t>My Color Bo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rang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28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5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19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2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03:58Z</dcterms:created>
  <dc:creator>BTSD BTSD</dc:creator>
  <dc:description/>
  <dc:language>en-US</dc:language>
  <cp:lastModifiedBy>Lisa Leve</cp:lastModifiedBy>
  <dcterms:modified xsi:type="dcterms:W3CDTF">2010-04-06T14:51:48Z</dcterms:modified>
  <cp:revision>7</cp:revision>
  <dc:subject/>
  <dc:title>PowerPoint Presentation</dc:title>
</cp:coreProperties>
</file>