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74D-7CD8-4191-AA32-556268E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50E-6BB5-4EB9-9B53-F379505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81A-2CCB-419D-8404-CCB1D9AA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CF6-EE8A-42EE-A498-D959353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C4A-41D8-40C3-A544-1F8FC5E1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CA1-F626-4248-99BF-F79DEEE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A62-2BB0-4E14-BF86-8A2F9F41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96B-C58D-4E6D-A41A-C07E29E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AE7-7D46-474F-B141-5C5689FC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727-F686-4E95-AB0A-9041966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457-D852-48F4-A7DD-828E11B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6C5-7512-45BE-9A75-B02AE70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806-EB29-4431-986B-8B4D36AF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2133720"/>
            <a:ext cx="662940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Cooper Black"/>
              </a:rPr>
              <a:t>My Color Bo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rang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28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5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19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2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03:58Z</dcterms:created>
  <dc:creator>BTSD BTSD</dc:creator>
  <dc:description/>
  <dc:language>en-US</dc:language>
  <cp:lastModifiedBy>Lisa Leve</cp:lastModifiedBy>
  <dcterms:modified xsi:type="dcterms:W3CDTF">2010-04-06T14:51:48Z</dcterms:modified>
  <cp:revision>7</cp:revision>
  <dc:subject/>
  <dc:title>PowerPoint Presentation</dc:title>
</cp:coreProperties>
</file>