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1D9E7-75A0-4130-8A43-815CB4CBC9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31356-B8BC-4CB7-9D3F-E914540CC4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3E9DB-6305-42A0-AAFB-C5473A0D9F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6A1B4-B0D6-4383-9187-0FE930FAB0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08253-077F-4E33-A5FD-472F13C0BC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B2F30-50A4-45E4-AEF1-8D94B5CA08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397F3-85CC-49EF-861E-8CDF3E4E49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0F2BF-E01B-4411-A5B2-C21196D73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C118B-27A5-4B3C-9FD0-EBAD547F2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F8E26-350A-4577-8B29-FD0AA6EFB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40530-0906-4A63-83D4-E3121B1DC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90098-C969-492D-9AB0-B1E96B60C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8B2F2-A5FD-48DE-9E08-4E245700B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3E725-9A1E-4D08-B005-DF9863D9B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7CC1C-F14D-4189-A9BD-80401CD52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04E68-E83B-48CB-B093-2FCFE442F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E82E1-8BA5-4784-94C4-A04E6F538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54FA4-2F33-465F-A6E0-B9E8653D4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1B052-3D08-4429-9E4F-72B590FB5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4DEF5-BD4E-4DB8-BD0B-D3E676CCA3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mo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Third Grade Stu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nuary 20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pp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7960" y="12952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y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eas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380880" y="12952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7"/>
          <p:cNvSpPr/>
          <p:nvPr/>
        </p:nvSpPr>
        <p:spPr>
          <a:xfrm>
            <a:off x="533520" y="563868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feel happy wh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609480" y="14479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1640" y="14479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609480" y="594360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felt sad wh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609480" y="13716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47960" y="13716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533520" y="586728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time that I felt mad w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ra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533160" y="13716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1640" y="13716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6"/>
          <p:cNvSpPr/>
          <p:nvPr/>
        </p:nvSpPr>
        <p:spPr>
          <a:xfrm>
            <a:off x="457200" y="579132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times I feel afraid wh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us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609480" y="12952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47960" y="12952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5"/>
          <p:cNvSpPr/>
          <p:nvPr/>
        </p:nvSpPr>
        <p:spPr>
          <a:xfrm>
            <a:off x="304920" y="5715000"/>
            <a:ext cx="830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was confused wh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2T15:53:33Z</dcterms:created>
  <dc:creator>Bensalem Twp School District</dc:creator>
  <dc:description/>
  <dc:language>en-US</dc:language>
  <cp:lastModifiedBy>Lisa Leve</cp:lastModifiedBy>
  <dcterms:modified xsi:type="dcterms:W3CDTF">2010-01-21T16:34:03Z</dcterms:modified>
  <cp:revision>4</cp:revision>
  <dc:subject/>
  <dc:title>Emotions</dc:title>
</cp:coreProperties>
</file>