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685F7-C066-41A7-A709-CF13CA596D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68258-8591-44AF-87F9-BE9282C5F2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53F2B-229D-44C1-AFA5-3DA3B9ACA9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C947A-B87F-4A29-ADB6-3A942178DC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F1292-1041-4C36-A2E4-4D206600CC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535F5-0A89-4E4F-9805-50BDED4AC4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4C1E6-F71E-42C2-BEC7-2050095DEF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655F7-692F-4EF5-BB90-58A626335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8CB55-D5D6-41F7-9279-B9ECBD97E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1DAEC-595B-41B8-9379-83223782A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832DE-08BB-4BAF-8D82-6E6FA7B83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392DF-CBBB-47EE-8B02-BD8AF642B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A61BC-8DCE-4958-9DCD-EA9A2F6CE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20C08-E291-46E5-B354-56DD209F7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EF9D5-64E0-40D0-8788-43671C728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8204C-26FC-4A88-B82F-94E54237F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57E08-A36D-4FFA-94F2-FEDDC5E98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53FAE-B74D-465F-85C4-2E757D606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1B624-9C28-4391-AE29-E4304046D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65DDC-CC41-4836-9598-E4FC4EB28C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mo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Third Grade Stu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nuary 20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pp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7960" y="12952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y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eas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380880" y="12952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7"/>
          <p:cNvSpPr/>
          <p:nvPr/>
        </p:nvSpPr>
        <p:spPr>
          <a:xfrm>
            <a:off x="533520" y="563868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feel happy wh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609480" y="14479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1640" y="14479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609480" y="594360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felt sad wh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609480" y="13716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47960" y="13716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533520" y="586728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time that I felt mad w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ra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533160" y="13716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1640" y="13716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6"/>
          <p:cNvSpPr/>
          <p:nvPr/>
        </p:nvSpPr>
        <p:spPr>
          <a:xfrm>
            <a:off x="457200" y="579132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times I feel afraid wh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us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609480" y="12952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47960" y="12952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5"/>
          <p:cNvSpPr/>
          <p:nvPr/>
        </p:nvSpPr>
        <p:spPr>
          <a:xfrm>
            <a:off x="304920" y="5715000"/>
            <a:ext cx="830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was confused wh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2T15:53:33Z</dcterms:created>
  <dc:creator>Bensalem Twp School District</dc:creator>
  <dc:description/>
  <dc:language>en-US</dc:language>
  <cp:lastModifiedBy>Lisa Leve</cp:lastModifiedBy>
  <dcterms:modified xsi:type="dcterms:W3CDTF">2010-01-21T16:34:03Z</dcterms:modified>
  <cp:revision>4</cp:revision>
  <dc:subject/>
  <dc:title>Emotions</dc:title>
</cp:coreProperties>
</file>