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640-FDDB-4FF3-86D3-A752A5A5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0E3E-48DB-4605-9919-ABC99F16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A97A-AFB3-41B7-BBE2-8931F56C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044-1F0D-4D2F-88FD-7013AE7FA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532-21ED-4089-87EC-2D5BDCE8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3AE-3135-4E96-B38A-7476FC831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EB10-711C-4B73-9E1B-8A4CC422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5B0-9BF5-4F94-BD27-CAF17AED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AE1-FAD3-4A17-B8E5-EB4A452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3B2-E244-4D0C-88E8-D4A57F1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44D-CE8A-4069-A0CD-FB44D032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B5C-7BF7-47AF-B6A6-73F9CCD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F13-89B7-46E7-98FB-2569E783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F39-C275-43A2-8E49-21694C20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28B-4277-46F5-A180-6FF155B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3B5-321B-41A6-81E9-2965A03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B28-38BE-4E67-B5FB-5BA2510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63D-3641-4767-8FB9-BF1E536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150-8116-4B96-B0FD-4DBCBF6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B613-6A75-4E7C-A9B8-08DEEF6F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rd Grad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happ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lt sa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5867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that I felt mad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 feel afrai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confus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53:33Z</dcterms:created>
  <dc:creator>Bensalem Twp School District</dc:creator>
  <dc:description/>
  <dc:language>en-US</dc:language>
  <cp:lastModifiedBy>Lisa Leve</cp:lastModifiedBy>
  <dcterms:modified xsi:type="dcterms:W3CDTF">2010-01-21T16:34:03Z</dcterms:modified>
  <cp:revision>4</cp:revision>
  <dc:subject/>
  <dc:title>Emotions</dc:title>
</cp:coreProperties>
</file>