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BB3-5B10-4AE6-B239-364B8184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9D9-AC0A-4873-B96A-2B1F453E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7337-62FF-4BEA-9AA0-7BB951D0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C6B1-A869-4755-84C1-CBC9AF043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C79-D0EC-4B90-93FE-7C912D73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D0BE-F428-4391-940C-CFBE5D1E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5EF-7B51-42D0-919C-3F54EFA1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73A-A29A-4538-AD51-96CF312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F20-9279-467E-A3A3-2D9E5320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736-1402-4D84-8A7C-5EF86873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F2-0905-49F4-A36A-277C8387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52B-8E26-47EA-A84B-AF2A0867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917-3104-423D-BEE9-E85A83F2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502-2576-4DC4-B767-893BD77C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A72-47C6-42AC-BA91-A0B2DB06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60D-FC5E-4873-B161-0CC4CD79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79C-750D-41E1-86D8-115C5CD2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11F-8349-4874-8465-43610AF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8D6-E7A2-4E38-A232-094EC08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55AC-44CA-438B-AEEE-65BF68E88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rd Grad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happ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lt sa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5867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that I felt mad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 feel afrai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confus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53:33Z</dcterms:created>
  <dc:creator>Bensalem Twp School District</dc:creator>
  <dc:description/>
  <dc:language>en-US</dc:language>
  <cp:lastModifiedBy>Lisa Leve</cp:lastModifiedBy>
  <dcterms:modified xsi:type="dcterms:W3CDTF">2010-01-21T16:34:03Z</dcterms:modified>
  <cp:revision>4</cp:revision>
  <dc:subject/>
  <dc:title>Emotions</dc:title>
</cp:coreProperties>
</file>