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77A14-56A3-49D3-A7B5-E20F91995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A01D9-9258-4E31-9033-25008E39C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75586-13C2-4353-8D87-7799810CF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20E6A-D796-4039-B9D8-51083FCA0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6B11F-F415-41E1-AD60-663C14D7C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E2113-0D90-426F-B328-7EB44CC35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EFC91-2C21-49E3-B9F2-AF0BC2C13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74D2-D03D-4689-9708-04F315051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B1D5-678B-4838-AF56-4A4914570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2E67-9DF5-4ECF-ACDB-0A85D1E3F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2671-63C4-462D-AEC1-EDCD98E9D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E42F-27EF-4713-AA42-DCF2DC81F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6C76-A21A-48C3-8DAB-80C411218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6AE9-42E8-4993-A86E-6D59DBF53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2D90-B61C-4403-A0FB-55032F5E4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0D51-AC0D-45C9-96C8-DB73CC618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5500-B089-4707-B260-F52B4EAA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5945-FB9D-4F37-940B-FFE6C660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86D4-E012-485D-AFFC-723B9835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129D2-1CD7-454F-AB94-E53E7A0F2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o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Third Grade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uary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p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7960" y="1295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y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as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80880" y="12952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533520" y="56386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feel happy wh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09480" y="14479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1640" y="1447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609480" y="59436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felt sad w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09480" y="13716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7960" y="13716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533520" y="58672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ime that I felt mad w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ra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33160" y="13716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1640" y="13716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457200" y="57913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I feel afraid w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u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09480" y="12952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47960" y="1295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304920" y="571500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was confused w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5:53:33Z</dcterms:created>
  <dc:creator>Bensalem Twp School District</dc:creator>
  <dc:description/>
  <dc:language>en-US</dc:language>
  <cp:lastModifiedBy>Lisa Leve</cp:lastModifiedBy>
  <dcterms:modified xsi:type="dcterms:W3CDTF">2010-01-21T16:34:03Z</dcterms:modified>
  <cp:revision>4</cp:revision>
  <dc:subject/>
  <dc:title>Emotions</dc:title>
</cp:coreProperties>
</file>