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890A8-1342-444D-B896-EC6EC2E90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7F035-6A9C-4273-9A59-E1A2B6BB8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3D7E3-ACFE-4CFD-A88F-E5E356610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F0CA8-025A-4DF8-96A5-1412BB8E9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2D8E6-1623-4F4C-BEE2-1798F76CB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77218-8927-4767-B55F-DCE5768AB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AD9A2-9A5C-4672-BDB7-C9ACAAE40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5540-7AB0-4220-A2B2-3DD2D5C2A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D64D-4C29-488D-B8A7-27DA38782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EE9C-4043-48B0-9A80-4D9F8F920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D84C-1A04-4050-AA49-BB25FEEC1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9801-A95D-4E2B-A097-290BEA397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86FA-B0F5-4D94-8A17-1F6AC2221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BB4B-C585-4E13-99CE-2CC3F0681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FCE3-009D-415D-8014-6685BC357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77F1-F5E7-4174-B119-BC38BCF56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7432-06E5-485D-A740-7F2635AC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6A49-E31C-462C-8F0B-26ABBFBB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D58E-83FB-4401-8DC5-84E39750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58BA8-3222-4E9D-B247-1F0177FF5D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o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Third Grade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uary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p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7960" y="1295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y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as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80880" y="12952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533520" y="56386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feel happy wh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09480" y="14479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1640" y="1447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609480" y="59436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felt sad w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09480" y="13716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7960" y="13716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533520" y="58672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ime that I felt mad w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ra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33160" y="13716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1640" y="13716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457200" y="57913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I feel afraid w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u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09480" y="12952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47960" y="1295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304920" y="571500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was confused w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5:53:33Z</dcterms:created>
  <dc:creator>Bensalem Twp School District</dc:creator>
  <dc:description/>
  <dc:language>en-US</dc:language>
  <cp:lastModifiedBy>Lisa Leve</cp:lastModifiedBy>
  <dcterms:modified xsi:type="dcterms:W3CDTF">2010-01-21T16:34:03Z</dcterms:modified>
  <cp:revision>4</cp:revision>
  <dc:subject/>
  <dc:title>Emotions</dc:title>
</cp:coreProperties>
</file>