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2B1-347A-4EB3-A457-A24D0F69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F0B-6028-4B91-A542-8609308C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15F-2DCC-432A-96D2-831A0E40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E2F-2E7B-4EDE-A72F-09842A25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BD6-EA24-47CA-8864-9C8E6FFF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7AA-69AF-4AFB-AA7E-AB1DC93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91D-F3E4-4E41-A35C-BCBD4265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313-EA59-4DBF-8C21-A993EE8F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D5C-3A92-4356-8A8F-020055B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38A-5CE5-4EBE-90EC-B1A94BC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9E2-E5E8-4F29-8210-58FAA13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B03-BCF6-41DD-8681-A9C104B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3054-3689-40B5-9BEF-758ACB0ED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914400" y="914400"/>
            <a:ext cx="30672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4872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ue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mpl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85800" y="1447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on solid lines, fold on dotted 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876920" y="457200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Not all bees have stingers. More than 20,000 kinds of b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85800" y="2590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Bees belong to the insec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819520" y="243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 is food for b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4876920" y="2438280"/>
            <a:ext cx="1904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og Bold - HMK"/>
              </a:rPr>
              <a:t>On a bee’s head are 2 antennae, 5 eyes, and a proboscis for drinking. A pair of wings &amp; 3 Pairs of legs are on the middl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7086600" y="25146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Honeybees &amp; bumblebees live in a colony in a h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2"/>
          <a:stretch/>
        </p:blipFill>
        <p:spPr>
          <a:xfrm>
            <a:off x="5334120" y="1143000"/>
            <a:ext cx="838080" cy="84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99036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9284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5"/>
          <a:stretch/>
        </p:blipFill>
        <p:spPr>
          <a:xfrm>
            <a:off x="8077320" y="3581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0"/>
          <p:cNvSpPr/>
          <p:nvPr/>
        </p:nvSpPr>
        <p:spPr>
          <a:xfrm>
            <a:off x="51055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41:52Z</dcterms:created>
  <dc:creator>Vicki Blackwell</dc:creator>
  <dc:description/>
  <dc:language>en-US</dc:language>
  <cp:lastModifiedBy>Lisa Leve</cp:lastModifiedBy>
  <cp:lastPrinted>2010-03-16T14:36:05Z</cp:lastPrinted>
  <dcterms:modified xsi:type="dcterms:W3CDTF">2010-03-30T16:07:07Z</dcterms:modified>
  <cp:revision>9</cp:revision>
  <dc:subject/>
  <dc:title>Slide 1</dc:title>
</cp:coreProperties>
</file>