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E27-8222-4E8D-8B20-99C62216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300-8BF2-4F4F-82C1-A47FA2A0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738-6C96-4641-AE04-6855C9F4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7B6-6417-439F-B5DC-31BA3D4B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559-DFB3-469C-B543-4978A3D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A14-EE5A-4CC3-BF48-FF7660EC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81D-B18B-4A85-936F-BD6B3F8B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B3A-0732-4470-B4F3-B05D3F66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714-1DCD-450E-8684-AF1E8AAB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0B7-0330-4C18-9FD4-4481391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C8B-0CDE-45B0-BA8D-64388DD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222-BFAF-4FCC-A90B-7987073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9D9-F63E-4874-8ED1-08915E34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914400" y="914400"/>
            <a:ext cx="30672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4872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ue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mpl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85800" y="1447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on solid lines, fold on dotted 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876920" y="457200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Not all bees have stingers. More than 20,000 kinds of b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85800" y="2590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Bees belong to the insec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819520" y="243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 is food for b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4876920" y="2438280"/>
            <a:ext cx="1904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og Bold - HMK"/>
              </a:rPr>
              <a:t>On a bee’s head are 2 antennae, 5 eyes, and a proboscis for drinking. A pair of wings &amp; 3 Pairs of legs are on the middl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7086600" y="25146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bees &amp; bumblebees live in a colony in a h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838080" cy="84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99036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9284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5"/>
          <a:stretch/>
        </p:blipFill>
        <p:spPr>
          <a:xfrm>
            <a:off x="8077320" y="3581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0"/>
          <p:cNvSpPr/>
          <p:nvPr/>
        </p:nvSpPr>
        <p:spPr>
          <a:xfrm>
            <a:off x="51055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41:52Z</dcterms:created>
  <dc:creator>Vicki Blackwell</dc:creator>
  <dc:description/>
  <dc:language>en-US</dc:language>
  <cp:lastModifiedBy>Lisa Leve</cp:lastModifiedBy>
  <cp:lastPrinted>2010-03-16T14:36:05Z</cp:lastPrinted>
  <dcterms:modified xsi:type="dcterms:W3CDTF">2010-03-30T16:07:07Z</dcterms:modified>
  <cp:revision>9</cp:revision>
  <dc:subject/>
  <dc:title>Slide 1</dc:title>
</cp:coreProperties>
</file>