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5C8-A447-41F4-8BCA-1DD5825F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1E8-3860-4A6E-8C1B-99F4831A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D9E-F661-4F0C-B5A4-FDE21A1F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687-0B8B-4592-94BC-DA6FC454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C31-6557-48E1-A3A2-E85573DE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2AF-15BD-4C90-AEF1-C6BDC8C8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463-D88A-4BC0-AB99-BB774BDD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520-EEC6-408B-AF3B-A24B9B5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7FA-A805-4E2B-A63B-956F11F4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379-937C-49D0-A291-B8724CA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832-F389-4D32-9B5B-AA7F72DA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DAC-7DF0-4C61-BEA8-94B3924C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C71B-2B39-40EC-87B1-B5BF287E9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lueBox"/>
          <p:cNvPicPr/>
          <p:nvPr/>
        </p:nvPicPr>
        <p:blipFill>
          <a:blip r:embed="rId1"/>
          <a:stretch/>
        </p:blipFill>
        <p:spPr>
          <a:xfrm>
            <a:off x="228600" y="0"/>
            <a:ext cx="8699400" cy="6819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39152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7238880" y="5562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529760" y="646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238880" y="990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2666880" y="4724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3"/>
          <p:cNvSpPr txBox="1"/>
          <p:nvPr/>
        </p:nvSpPr>
        <p:spPr>
          <a:xfrm>
            <a:off x="914400" y="914400"/>
            <a:ext cx="30672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4872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ue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mpl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685800" y="1447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on solid lines, fold on dotted lines Glue all flaps except the top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4876920" y="457200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Not all bees have stingers. More than 20,000 kinds of b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85800" y="2590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Bees belong to the insect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819520" y="2438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Honey is food for b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4876920" y="2438280"/>
            <a:ext cx="1904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og Bold - HMK"/>
              </a:rPr>
              <a:t>On a bee’s head are 2 antennae, 5 eyes, and a proboscis for drinking. A pair of wings &amp; 3 Pairs of legs are on the middle p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7086600" y="251460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Honeybees &amp; bumblebees live in a colony in a h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25"/>
          <p:cNvSpPr txBox="1"/>
          <p:nvPr/>
        </p:nvSpPr>
        <p:spPr>
          <a:xfrm>
            <a:off x="5029200" y="45720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2"/>
          <a:stretch/>
        </p:blipFill>
        <p:spPr>
          <a:xfrm>
            <a:off x="5334120" y="1143000"/>
            <a:ext cx="838080" cy="84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990360" cy="8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4"/>
          <a:stretch/>
        </p:blipFill>
        <p:spPr>
          <a:xfrm>
            <a:off x="3276720" y="3352680"/>
            <a:ext cx="928440" cy="97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"/>
          <p:cNvPicPr/>
          <p:nvPr/>
        </p:nvPicPr>
        <p:blipFill>
          <a:blip r:embed="rId5"/>
          <a:stretch/>
        </p:blipFill>
        <p:spPr>
          <a:xfrm>
            <a:off x="8077320" y="3581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0"/>
          <p:cNvSpPr/>
          <p:nvPr/>
        </p:nvSpPr>
        <p:spPr>
          <a:xfrm>
            <a:off x="510552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s. L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41:52Z</dcterms:created>
  <dc:creator>Vicki Blackwell</dc:creator>
  <dc:description/>
  <dc:language>en-US</dc:language>
  <cp:lastModifiedBy>Lisa Leve</cp:lastModifiedBy>
  <cp:lastPrinted>2010-03-16T14:36:05Z</cp:lastPrinted>
  <dcterms:modified xsi:type="dcterms:W3CDTF">2010-03-30T16:07:07Z</dcterms:modified>
  <cp:revision>9</cp:revision>
  <dc:subject/>
  <dc:title>Slide 1</dc:title>
</cp:coreProperties>
</file>