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E42-2855-429A-A033-104D59E7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7ED-0692-492E-909D-97EE3D70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2B8-F59E-4FC1-9481-49240810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807-4A27-4DE2-83AF-8AC2759D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52A-FC41-405A-8AA6-AE2741C1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F6F-CDCE-4A7B-9AEC-F9B67360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345-F0E3-4A9B-B67A-71378181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C0E-36FD-41D0-A263-671F5ACD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543-25ED-4CFB-AB5C-D24C98F0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E65-165C-4C5A-BEA7-878CE0EC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B19-A355-48E4-A629-965DE0D9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0F9-F7FD-42D6-94B3-39124964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6D9A-D55C-4498-B3CA-BF622B846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lueBox"/>
          <p:cNvPicPr/>
          <p:nvPr/>
        </p:nvPicPr>
        <p:blipFill>
          <a:blip r:embed="rId1"/>
          <a:stretch/>
        </p:blipFill>
        <p:spPr>
          <a:xfrm>
            <a:off x="228600" y="0"/>
            <a:ext cx="8699400" cy="6819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39152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7238880" y="5562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529760" y="646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238880" y="990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2666880" y="4724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3"/>
          <p:cNvSpPr txBox="1"/>
          <p:nvPr/>
        </p:nvSpPr>
        <p:spPr>
          <a:xfrm>
            <a:off x="914400" y="914400"/>
            <a:ext cx="30672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4872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ue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mpl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685800" y="1447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on solid lines, fold on dotted lines Glue all flaps except the top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4876920" y="457200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Not all bees have stingers. More than 20,000 kinds of b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85800" y="2590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Bees belong to the insect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819520" y="2438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Honey is food for b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4876920" y="2438280"/>
            <a:ext cx="1904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og Bold - HMK"/>
              </a:rPr>
              <a:t>On a bee’s head are 2 antennae, 5 eyes, and a proboscis for drinking. A pair of wings &amp; 3 Pairs of legs are on the middle p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7086600" y="251460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Honeybees &amp; bumblebees live in a colony in a h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25"/>
          <p:cNvSpPr txBox="1"/>
          <p:nvPr/>
        </p:nvSpPr>
        <p:spPr>
          <a:xfrm>
            <a:off x="5029200" y="45720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2"/>
          <a:stretch/>
        </p:blipFill>
        <p:spPr>
          <a:xfrm>
            <a:off x="5334120" y="1143000"/>
            <a:ext cx="838080" cy="84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990360" cy="8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4"/>
          <a:stretch/>
        </p:blipFill>
        <p:spPr>
          <a:xfrm>
            <a:off x="3276720" y="3352680"/>
            <a:ext cx="928440" cy="97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"/>
          <p:cNvPicPr/>
          <p:nvPr/>
        </p:nvPicPr>
        <p:blipFill>
          <a:blip r:embed="rId5"/>
          <a:stretch/>
        </p:blipFill>
        <p:spPr>
          <a:xfrm>
            <a:off x="8077320" y="3581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0"/>
          <p:cNvSpPr/>
          <p:nvPr/>
        </p:nvSpPr>
        <p:spPr>
          <a:xfrm>
            <a:off x="510552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s. L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41:52Z</dcterms:created>
  <dc:creator>Vicki Blackwell</dc:creator>
  <dc:description/>
  <dc:language>en-US</dc:language>
  <cp:lastModifiedBy>Lisa Leve</cp:lastModifiedBy>
  <cp:lastPrinted>2010-03-16T14:36:05Z</cp:lastPrinted>
  <dcterms:modified xsi:type="dcterms:W3CDTF">2010-03-30T16:07:07Z</dcterms:modified>
  <cp:revision>9</cp:revision>
  <dc:subject/>
  <dc:title>Slide 1</dc:title>
</cp:coreProperties>
</file>