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571E-E91C-4EC7-B799-36E8DF19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B82-1C95-4577-BCEA-458C9360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825-931D-4BD6-9688-88683B0C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C0A1-9110-43E5-A644-512885E5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0062-57F5-402E-8149-CBEF1CF7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FBC-1005-4927-88E8-D64C0A39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941-516F-49A3-B394-81796AF5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FE4-429C-4CA1-BB0F-4CCAB475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86D-7AD8-40AB-B865-D7F34D1B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DAFD-073A-4545-ABD2-FF6DFD02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1846-9A55-46E8-9CF4-6F783695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6C0D-456D-44C7-8F94-3BB8BB70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3CF0-09CF-4811-B59F-5D80E8AEE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lueBox"/>
          <p:cNvPicPr/>
          <p:nvPr/>
        </p:nvPicPr>
        <p:blipFill>
          <a:blip r:embed="rId1"/>
          <a:stretch/>
        </p:blipFill>
        <p:spPr>
          <a:xfrm>
            <a:off x="228600" y="0"/>
            <a:ext cx="8699400" cy="6819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7391520" y="51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7238880" y="556272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7529760" y="646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7238880" y="99072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447920" y="4800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s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2666880" y="4724280"/>
            <a:ext cx="228600" cy="838440"/>
          </a:xfrm>
          <a:prstGeom prst="upArrow">
            <a:avLst>
              <a:gd name="adj1" fmla="val 50000"/>
              <a:gd name="adj2" fmla="val 9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533520" y="68580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ne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d on dot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 Glue all flaps except the top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4876920" y="4648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Side 5(2 fa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685800" y="25909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og Bold - HMK"/>
              </a:rPr>
              <a:t>Side 1 (gro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2819520" y="2590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Side 2(f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2"/>
          <p:cNvSpPr/>
          <p:nvPr/>
        </p:nvSpPr>
        <p:spPr>
          <a:xfrm>
            <a:off x="487692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Side3(look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7086600" y="2514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og Bold - HMK"/>
              </a:rPr>
              <a:t>side 4(habit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25"/>
          <p:cNvSpPr txBox="1"/>
          <p:nvPr/>
        </p:nvSpPr>
        <p:spPr>
          <a:xfrm>
            <a:off x="5029200" y="45720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itl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TextBox 20"/>
          <p:cNvSpPr/>
          <p:nvPr/>
        </p:nvSpPr>
        <p:spPr>
          <a:xfrm>
            <a:off x="4876920" y="1676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4:37:33Z</dcterms:created>
  <dc:creator>Vicki Blackwell</dc:creator>
  <dc:description/>
  <dc:language>en-US</dc:language>
  <cp:lastModifiedBy>Lisa Leve</cp:lastModifiedBy>
  <cp:lastPrinted>2010-03-16T14:36:05Z</cp:lastPrinted>
  <dcterms:modified xsi:type="dcterms:W3CDTF">2010-04-06T18:41:09Z</dcterms:modified>
  <cp:revision>12</cp:revision>
  <dc:subject/>
  <dc:title>Slide 1</dc:title>
</cp:coreProperties>
</file>