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EA1-DC1A-4BA6-A210-BEE1B06C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C21-FB6D-45AC-9F1F-E089C4AF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847-B9B8-412F-B0CE-5EFC2525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5F9-0103-409D-A8B7-4923C54F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216-2B39-44DD-AC2C-373F2610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31F-2CB4-4424-AA63-3FE1C18D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2A5-41AF-4C0F-95DB-61F9CAE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87C-2329-4793-A413-78378387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282-1F60-40CF-885E-F112AF2B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11A-F9F6-4394-BC27-C7E241A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C15-680E-4EE2-88A3-F94AB54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854-9401-486B-A90F-B07AC33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D642-9A8A-41F8-990F-6B31E3A67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33520" y="685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 on dot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87692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5(2 fa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85800" y="2590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Side 1 (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819520" y="2590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2(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48769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3(loo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7086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4(habi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t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48769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7:33Z</dcterms:created>
  <dc:creator>Vicki Blackwell</dc:creator>
  <dc:description/>
  <dc:language>en-US</dc:language>
  <cp:lastModifiedBy>Lisa Leve</cp:lastModifiedBy>
  <cp:lastPrinted>2010-03-16T14:36:05Z</cp:lastPrinted>
  <dcterms:modified xsi:type="dcterms:W3CDTF">2010-04-06T18:41:09Z</dcterms:modified>
  <cp:revision>12</cp:revision>
  <dc:subject/>
  <dc:title>Slide 1</dc:title>
</cp:coreProperties>
</file>