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C69-CE25-42C9-A25D-C235C475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FA0-6999-408C-A138-DED6AAA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581-87E3-4493-803D-7C45A389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0DA-93BE-46F1-9006-58C36213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C1E-4460-4588-935F-BCCBD11A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238-3543-4B14-A8EA-8BA6FCA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68C-BD63-40D6-9A64-3822A13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40E-F05F-4CCA-887D-6EAC69E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C6-3E61-4B77-9FD0-5C32F40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559-39EA-410F-88E2-13ECD163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8B6-034A-4B0F-A988-73B4038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ED7-12B9-4B66-9F59-A862FE4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830-4697-48A5-ADB0-E868C8DB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33520" y="685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 on dot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87692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5(2 fa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85800" y="2590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Side 1 (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819520" y="2590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2(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48769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3(loo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7086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4(habi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t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48769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7:33Z</dcterms:created>
  <dc:creator>Vicki Blackwell</dc:creator>
  <dc:description/>
  <dc:language>en-US</dc:language>
  <cp:lastModifiedBy>Lisa Leve</cp:lastModifiedBy>
  <cp:lastPrinted>2010-03-16T14:36:05Z</cp:lastPrinted>
  <dcterms:modified xsi:type="dcterms:W3CDTF">2010-04-06T18:41:09Z</dcterms:modified>
  <cp:revision>12</cp:revision>
  <dc:subject/>
  <dc:title>Slide 1</dc:title>
</cp:coreProperties>
</file>