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E222-73ED-477D-8C0C-5371CB6C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E48C-7AF7-4959-B822-9264D01C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440A-602B-406F-B977-FDAC8B87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5C07-C499-4454-B6D0-EBE6DF12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4381-421F-4513-B150-275B505C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397B-8970-4087-9CEB-8C794524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F101-D6B5-4006-9D29-C6E8C60C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56B9-24C6-47ED-89C4-FE308678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B294-023F-4350-BE3C-976C73CA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522A-9224-4768-95C9-5CED0B29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C9F3-E279-405A-93DE-DEB67B77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DE1B-8DAA-413A-8CE6-E4FC7EE5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3829F-59A3-4C40-B84C-15D45F2786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F0AE1-E119-492F-AE11-A8E16B8D3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am 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a male African Ameri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no longer liv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s assassin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s a minis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famous for fighting for Civil Righ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781680" y="274680"/>
            <a:ext cx="1617840" cy="1809720"/>
          </a:xfrm>
          <a:prstGeom prst="rect">
            <a:avLst/>
          </a:prstGeom>
          <a:ln w="0">
            <a:noFill/>
          </a:ln>
        </p:spPr>
      </p:pic>
      <p:pic>
        <p:nvPicPr>
          <p:cNvPr id="44" name="mlk" descr=""/>
          <p:cNvPicPr/>
          <p:nvPr/>
        </p:nvPicPr>
        <p:blipFill>
          <a:blip r:embed="rId2"/>
          <a:stretch/>
        </p:blipFill>
        <p:spPr>
          <a:xfrm>
            <a:off x="4424400" y="3281400"/>
            <a:ext cx="293760" cy="293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3708360" y="2516040"/>
            <a:ext cx="17272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am Martin Luther King J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mlk.jpg"/>
          <p:cNvPicPr/>
          <p:nvPr/>
        </p:nvPicPr>
        <p:blipFill>
          <a:blip r:embed="rId1"/>
          <a:srcRect l="-10606" t="0" r="-1060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mlk2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29340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Who am 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am a female African Ameri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am no longer liv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was arrested for not giving up my seat on the bus to a white ma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was a civil rights activist, who led the bus boycott in Montgomery, 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5486400" y="4748040"/>
            <a:ext cx="2484360" cy="1378080"/>
          </a:xfrm>
          <a:prstGeom prst="rect">
            <a:avLst/>
          </a:prstGeom>
          <a:ln w="0">
            <a:noFill/>
          </a:ln>
        </p:spPr>
      </p:pic>
      <p:pic>
        <p:nvPicPr>
          <p:cNvPr id="52" name="Rosa Parks" descr=""/>
          <p:cNvPicPr/>
          <p:nvPr/>
        </p:nvPicPr>
        <p:blipFill>
          <a:blip r:embed="rId2"/>
          <a:stretch/>
        </p:blipFill>
        <p:spPr>
          <a:xfrm>
            <a:off x="1905120" y="533520"/>
            <a:ext cx="29340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4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am Rosa Park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rosa-parks.jpg"/>
          <p:cNvPicPr/>
          <p:nvPr/>
        </p:nvPicPr>
        <p:blipFill>
          <a:blip r:embed="rId1"/>
          <a:srcRect l="-81044" t="0" r="-8104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rosa2" descr=""/>
          <p:cNvPicPr/>
          <p:nvPr/>
        </p:nvPicPr>
        <p:blipFill>
          <a:blip r:embed="rId2"/>
          <a:stretch/>
        </p:blipFill>
        <p:spPr>
          <a:xfrm>
            <a:off x="990720" y="849240"/>
            <a:ext cx="29340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6:05:24Z</dcterms:created>
  <dc:creator>BTSD</dc:creator>
  <dc:description/>
  <dc:language>en-US</dc:language>
  <cp:lastModifiedBy>BTSD</cp:lastModifiedBy>
  <dcterms:modified xsi:type="dcterms:W3CDTF">2009-01-30T18:20:17Z</dcterms:modified>
  <cp:revision>3</cp:revision>
  <dc:subject/>
  <dc:title>Who am I?</dc:title>
</cp:coreProperties>
</file>