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8789-0BD1-474E-8565-0D51ADF5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B58-F3BA-4ABE-B16B-87D0D286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8DC-39C8-4174-90B8-767317CE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FF16-40DD-4D5A-B6BD-DB604D77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602-2CFD-4904-8824-66FA631F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9F70-304D-4A45-A729-5CC9F04B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9A76-8004-4837-B90E-F1015E67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349E-595A-417D-8D7F-91D90F01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C047-CF19-439C-9FBB-BD17228F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B6B-D0E2-4D33-9ADA-B87E4BC7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299-2543-40E8-87F5-94A69479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56F6-2CD7-4DEA-BBD2-447F9AEE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2E8F3-0A80-4447-A9B9-8E69EC6DC3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282E3-6795-41DA-86D0-C05EE85E8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am 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a male African Ameri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no longer liv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s assassin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s a minis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famous for fighting for Civil Righ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781680" y="274680"/>
            <a:ext cx="1617840" cy="1809720"/>
          </a:xfrm>
          <a:prstGeom prst="rect">
            <a:avLst/>
          </a:prstGeom>
          <a:ln w="0">
            <a:noFill/>
          </a:ln>
        </p:spPr>
      </p:pic>
      <p:pic>
        <p:nvPicPr>
          <p:cNvPr id="44" name="mlk" descr=""/>
          <p:cNvPicPr/>
          <p:nvPr/>
        </p:nvPicPr>
        <p:blipFill>
          <a:blip r:embed="rId2"/>
          <a:stretch/>
        </p:blipFill>
        <p:spPr>
          <a:xfrm>
            <a:off x="4424400" y="3281400"/>
            <a:ext cx="293760" cy="293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3708360" y="2516040"/>
            <a:ext cx="17272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am Martin Luther King J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mlk.jpg"/>
          <p:cNvPicPr/>
          <p:nvPr/>
        </p:nvPicPr>
        <p:blipFill>
          <a:blip r:embed="rId1"/>
          <a:srcRect l="-10606" t="0" r="-1060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mlk2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29340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Who am 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am a female African Ameri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am no longer liv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was arrested for not giving up my seat on the bus to a white ma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was a civil rights activist, who led the bus boycott in Montgomery, 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5486400" y="4748040"/>
            <a:ext cx="2484360" cy="1378080"/>
          </a:xfrm>
          <a:prstGeom prst="rect">
            <a:avLst/>
          </a:prstGeom>
          <a:ln w="0">
            <a:noFill/>
          </a:ln>
        </p:spPr>
      </p:pic>
      <p:pic>
        <p:nvPicPr>
          <p:cNvPr id="52" name="Rosa Parks" descr=""/>
          <p:cNvPicPr/>
          <p:nvPr/>
        </p:nvPicPr>
        <p:blipFill>
          <a:blip r:embed="rId2"/>
          <a:stretch/>
        </p:blipFill>
        <p:spPr>
          <a:xfrm>
            <a:off x="1905120" y="533520"/>
            <a:ext cx="29340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4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ernard MT Condensed"/>
                <a:ea typeface="Bernard MT Condensed"/>
              </a:rPr>
              <a:t>I am Rosa Park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rosa-parks.jpg"/>
          <p:cNvPicPr/>
          <p:nvPr/>
        </p:nvPicPr>
        <p:blipFill>
          <a:blip r:embed="rId1"/>
          <a:srcRect l="-81044" t="0" r="-8104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rosa2" descr=""/>
          <p:cNvPicPr/>
          <p:nvPr/>
        </p:nvPicPr>
        <p:blipFill>
          <a:blip r:embed="rId2"/>
          <a:stretch/>
        </p:blipFill>
        <p:spPr>
          <a:xfrm>
            <a:off x="990720" y="849240"/>
            <a:ext cx="29340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6:05:24Z</dcterms:created>
  <dc:creator>BTSD</dc:creator>
  <dc:description/>
  <dc:language>en-US</dc:language>
  <cp:lastModifiedBy>BTSD</cp:lastModifiedBy>
  <dcterms:modified xsi:type="dcterms:W3CDTF">2009-01-30T18:20:17Z</dcterms:modified>
  <cp:revision>3</cp:revision>
  <dc:subject/>
  <dc:title>Who am I?</dc:title>
</cp:coreProperties>
</file>