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6D60-FD9B-4E2D-A199-A777B23E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97E5-469A-401B-908B-E72CDB19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74A6-04E7-4FCA-BA76-A2C96518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C1A1-8C12-4CFB-8742-D53DCAEC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3701-1E08-456E-A630-E2976C1E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A6D3-DFB0-43CB-8F94-2F70F7C9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7701-3397-41CE-8C86-3174972A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BF6E-FAA8-4B06-BCB0-3C525D6F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6F7F-A629-4D65-B639-DBF27479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7D5A-2D1C-4F77-9D89-A873D191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A969-FFCC-41D9-85BC-6EFD5CE8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E34D-B9D0-4D2D-A233-E265733A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230A8-1CC5-40A9-A200-D353D23E33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236B5F-CD85-408A-99FE-8C04664F1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am 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a male African Ameri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no longer liv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s assassin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s a minis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famous for fighting for Civil Righ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6781680" y="274680"/>
            <a:ext cx="1617840" cy="1809720"/>
          </a:xfrm>
          <a:prstGeom prst="rect">
            <a:avLst/>
          </a:prstGeom>
          <a:ln w="0">
            <a:noFill/>
          </a:ln>
        </p:spPr>
      </p:pic>
      <p:pic>
        <p:nvPicPr>
          <p:cNvPr id="44" name="mlk" descr=""/>
          <p:cNvPicPr/>
          <p:nvPr/>
        </p:nvPicPr>
        <p:blipFill>
          <a:blip r:embed="rId2"/>
          <a:stretch/>
        </p:blipFill>
        <p:spPr>
          <a:xfrm>
            <a:off x="4424400" y="3281400"/>
            <a:ext cx="293760" cy="293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3708360" y="2516040"/>
            <a:ext cx="172728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am Martin Luther King J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mlk.jpg"/>
          <p:cNvPicPr/>
          <p:nvPr/>
        </p:nvPicPr>
        <p:blipFill>
          <a:blip r:embed="rId1"/>
          <a:srcRect l="-10606" t="0" r="-1060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mlk2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29340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Who am 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 am a female African Ameri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 am no longer liv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 was arrested for not giving up my seat on the bus to a white ma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 was a civil rights activist, who led the bus boycott in Montgomery, 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5486400" y="4748040"/>
            <a:ext cx="2484360" cy="1378080"/>
          </a:xfrm>
          <a:prstGeom prst="rect">
            <a:avLst/>
          </a:prstGeom>
          <a:ln w="0">
            <a:noFill/>
          </a:ln>
        </p:spPr>
      </p:pic>
      <p:pic>
        <p:nvPicPr>
          <p:cNvPr id="52" name="Rosa Parks" descr=""/>
          <p:cNvPicPr/>
          <p:nvPr/>
        </p:nvPicPr>
        <p:blipFill>
          <a:blip r:embed="rId2"/>
          <a:stretch/>
        </p:blipFill>
        <p:spPr>
          <a:xfrm>
            <a:off x="1905120" y="533520"/>
            <a:ext cx="293400" cy="2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4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 am Rosa Park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rosa-parks.jpg"/>
          <p:cNvPicPr/>
          <p:nvPr/>
        </p:nvPicPr>
        <p:blipFill>
          <a:blip r:embed="rId1"/>
          <a:srcRect l="-81044" t="0" r="-8104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rosa2" descr=""/>
          <p:cNvPicPr/>
          <p:nvPr/>
        </p:nvPicPr>
        <p:blipFill>
          <a:blip r:embed="rId2"/>
          <a:stretch/>
        </p:blipFill>
        <p:spPr>
          <a:xfrm>
            <a:off x="990720" y="849240"/>
            <a:ext cx="29340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6:05:24Z</dcterms:created>
  <dc:creator>BTSD</dc:creator>
  <dc:description/>
  <dc:language>en-US</dc:language>
  <cp:lastModifiedBy>BTSD</cp:lastModifiedBy>
  <dcterms:modified xsi:type="dcterms:W3CDTF">2009-01-30T18:20:17Z</dcterms:modified>
  <cp:revision>3</cp:revision>
  <dc:subject/>
  <dc:title>Who am I?</dc:title>
</cp:coreProperties>
</file>