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6B34-0CA7-4DA7-A288-BA6FE13E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CD38-593C-4D6E-B326-94196E22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8C0D-65DB-46F0-A083-31CC2934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A45F-5337-4D22-8685-6D8CBCA9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DE18-FDA5-4748-A9E3-86BA4A62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0632-7946-4B3A-8A1D-79EF77D7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EF3C-C6D5-4E04-8D1E-FD30459C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7672-FCF4-4D7E-9339-001C4CF1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56EF-4BCD-4260-97CF-B7A81762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4884-24F4-49D3-AFA6-A1A20B04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4E82-0942-4E45-8506-438FF131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3FA3-2040-4E4F-922E-4FC921B8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88A64A-70C5-49D9-B3BA-D619C707C7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64814A-284E-454C-8021-3135EAE68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am 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a male African Ameri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no longer liv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s assassin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s a minis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famous for fighting for Civil Righ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6781680" y="274680"/>
            <a:ext cx="1617840" cy="1809720"/>
          </a:xfrm>
          <a:prstGeom prst="rect">
            <a:avLst/>
          </a:prstGeom>
          <a:ln w="0">
            <a:noFill/>
          </a:ln>
        </p:spPr>
      </p:pic>
      <p:pic>
        <p:nvPicPr>
          <p:cNvPr id="44" name="mlk" descr=""/>
          <p:cNvPicPr/>
          <p:nvPr/>
        </p:nvPicPr>
        <p:blipFill>
          <a:blip r:embed="rId2"/>
          <a:stretch/>
        </p:blipFill>
        <p:spPr>
          <a:xfrm>
            <a:off x="4424400" y="3281400"/>
            <a:ext cx="293760" cy="293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3708360" y="2516040"/>
            <a:ext cx="172728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am Martin Luther King J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mlk.jpg"/>
          <p:cNvPicPr/>
          <p:nvPr/>
        </p:nvPicPr>
        <p:blipFill>
          <a:blip r:embed="rId1"/>
          <a:srcRect l="-10606" t="0" r="-1060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mlk2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29340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Who am 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 am a female African Ameri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 am no longer liv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 was arrested for not giving up my seat on the bus to a white ma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 was a civil rights activist, who led the bus boycott in Montgomery, 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5486400" y="4748040"/>
            <a:ext cx="2484360" cy="1378080"/>
          </a:xfrm>
          <a:prstGeom prst="rect">
            <a:avLst/>
          </a:prstGeom>
          <a:ln w="0">
            <a:noFill/>
          </a:ln>
        </p:spPr>
      </p:pic>
      <p:pic>
        <p:nvPicPr>
          <p:cNvPr id="52" name="Rosa Parks" descr=""/>
          <p:cNvPicPr/>
          <p:nvPr/>
        </p:nvPicPr>
        <p:blipFill>
          <a:blip r:embed="rId2"/>
          <a:stretch/>
        </p:blipFill>
        <p:spPr>
          <a:xfrm>
            <a:off x="1905120" y="533520"/>
            <a:ext cx="293400" cy="2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4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 am Rosa Park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rosa-parks.jpg"/>
          <p:cNvPicPr/>
          <p:nvPr/>
        </p:nvPicPr>
        <p:blipFill>
          <a:blip r:embed="rId1"/>
          <a:srcRect l="-81044" t="0" r="-8104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rosa2" descr=""/>
          <p:cNvPicPr/>
          <p:nvPr/>
        </p:nvPicPr>
        <p:blipFill>
          <a:blip r:embed="rId2"/>
          <a:stretch/>
        </p:blipFill>
        <p:spPr>
          <a:xfrm>
            <a:off x="990720" y="849240"/>
            <a:ext cx="29340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6:05:24Z</dcterms:created>
  <dc:creator>BTSD</dc:creator>
  <dc:description/>
  <dc:language>en-US</dc:language>
  <cp:lastModifiedBy>BTSD</cp:lastModifiedBy>
  <dcterms:modified xsi:type="dcterms:W3CDTF">2009-01-30T18:20:17Z</dcterms:modified>
  <cp:revision>3</cp:revision>
  <dc:subject/>
  <dc:title>Who am I?</dc:title>
</cp:coreProperties>
</file>