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0D6-5655-44FD-AC95-A5C45131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66D-11B0-4AB0-9303-F670EC4E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88A-04F6-4F3D-A950-527918CC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66C-2E21-441E-9FC3-499C2F97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E19-C2FA-4465-9686-C2775D0B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C91-3529-4042-B0FF-F7199736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883-FA09-4913-A3E5-C6AE6863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BF1-077D-4C40-9E82-4869E45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B7D-482F-4916-BD57-E000CD09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0D9-586F-451D-9F1F-EFF110F4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FE1-FAE9-455E-975F-A3CE6CEB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DCB-D194-4843-84B2-8BEFBD12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66B5A-7C64-4F62-86B1-1E6C73A97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A9036-9365-4807-A07D-4E511F34A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 min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famous for fighting for Civil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781680" y="274680"/>
            <a:ext cx="161784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mlk" descr=""/>
          <p:cNvPicPr/>
          <p:nvPr/>
        </p:nvPicPr>
        <p:blipFill>
          <a:blip r:embed="rId2"/>
          <a:stretch/>
        </p:blipFill>
        <p:spPr>
          <a:xfrm>
            <a:off x="4424400" y="328140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3708360" y="2516040"/>
            <a:ext cx="17272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Martin Luther King J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mlk.jpg"/>
          <p:cNvPicPr/>
          <p:nvPr/>
        </p:nvPicPr>
        <p:blipFill>
          <a:blip r:embed="rId1"/>
          <a:srcRect l="-10606" t="0" r="-1060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mlk2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a fe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rrested for not giving up my seat on the bus to a white m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 civil rights activist, who led the bus boycott in Montgomery,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486400" y="4748040"/>
            <a:ext cx="248436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Rosa Parks" descr=""/>
          <p:cNvPicPr/>
          <p:nvPr/>
        </p:nvPicPr>
        <p:blipFill>
          <a:blip r:embed="rId2"/>
          <a:stretch/>
        </p:blipFill>
        <p:spPr>
          <a:xfrm>
            <a:off x="1905120" y="533520"/>
            <a:ext cx="2934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Rosa Par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rosa-parks.jpg"/>
          <p:cNvPicPr/>
          <p:nvPr/>
        </p:nvPicPr>
        <p:blipFill>
          <a:blip r:embed="rId1"/>
          <a:srcRect l="-81044" t="0" r="-810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osa2" descr=""/>
          <p:cNvPicPr/>
          <p:nvPr/>
        </p:nvPicPr>
        <p:blipFill>
          <a:blip r:embed="rId2"/>
          <a:stretch/>
        </p:blipFill>
        <p:spPr>
          <a:xfrm>
            <a:off x="990720" y="84924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5:24Z</dcterms:created>
  <dc:creator>BTSD</dc:creator>
  <dc:description/>
  <dc:language>en-US</dc:language>
  <cp:lastModifiedBy>BTSD</cp:lastModifiedBy>
  <dcterms:modified xsi:type="dcterms:W3CDTF">2009-01-30T18:20:17Z</dcterms:modified>
  <cp:revision>3</cp:revision>
  <dc:subject/>
  <dc:title>Who am I?</dc:title>
</cp:coreProperties>
</file>