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B1D-DE6A-47AB-9854-29E0B32D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89B-3DB0-4A4F-9626-4DAFAC7A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1F7-9EDD-4C68-9137-B3748262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DD9-2F63-4383-BF9E-81388B0A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E8A-2713-484D-901C-739161B5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92C-3ED6-4B84-A716-D8E0764E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A44-3F17-4B8C-BAC6-51477C15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7D7-607F-4581-AE27-746E066A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FB5-B89F-4CC4-83C1-BD879A24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443-2493-4737-9EEA-67953B83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D47-E46A-4351-84F3-49F5F7B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EA6-AE75-4477-8DF5-308D96C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4B8D6-EEF7-4DA4-9E93-CACEC90B1B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137DC-C249-4838-BC23-7D4B1196A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 min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famous for fighting for Civil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781680" y="274680"/>
            <a:ext cx="161784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mlk" descr=""/>
          <p:cNvPicPr/>
          <p:nvPr/>
        </p:nvPicPr>
        <p:blipFill>
          <a:blip r:embed="rId2"/>
          <a:stretch/>
        </p:blipFill>
        <p:spPr>
          <a:xfrm>
            <a:off x="4424400" y="328140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3708360" y="2516040"/>
            <a:ext cx="17272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Martin Luther King J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mlk.jpg"/>
          <p:cNvPicPr/>
          <p:nvPr/>
        </p:nvPicPr>
        <p:blipFill>
          <a:blip r:embed="rId1"/>
          <a:srcRect l="-10606" t="0" r="-1060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mlk2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a fe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rrested for not giving up my seat on the bus to a white m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 civil rights activist, who led the bus boycott in Montgomery,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486400" y="4748040"/>
            <a:ext cx="248436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Rosa Parks" descr=""/>
          <p:cNvPicPr/>
          <p:nvPr/>
        </p:nvPicPr>
        <p:blipFill>
          <a:blip r:embed="rId2"/>
          <a:stretch/>
        </p:blipFill>
        <p:spPr>
          <a:xfrm>
            <a:off x="1905120" y="533520"/>
            <a:ext cx="2934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Rosa Par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rosa-parks.jpg"/>
          <p:cNvPicPr/>
          <p:nvPr/>
        </p:nvPicPr>
        <p:blipFill>
          <a:blip r:embed="rId1"/>
          <a:srcRect l="-81044" t="0" r="-810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osa2" descr=""/>
          <p:cNvPicPr/>
          <p:nvPr/>
        </p:nvPicPr>
        <p:blipFill>
          <a:blip r:embed="rId2"/>
          <a:stretch/>
        </p:blipFill>
        <p:spPr>
          <a:xfrm>
            <a:off x="990720" y="84924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5:24Z</dcterms:created>
  <dc:creator>BTSD</dc:creator>
  <dc:description/>
  <dc:language>en-US</dc:language>
  <cp:lastModifiedBy>BTSD</cp:lastModifiedBy>
  <dcterms:modified xsi:type="dcterms:W3CDTF">2009-01-30T18:20:17Z</dcterms:modified>
  <cp:revision>3</cp:revision>
  <dc:subject/>
  <dc:title>Who am I?</dc:title>
</cp:coreProperties>
</file>