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D5BE6-63AF-4F05-AD79-4E3EAD3879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FFDE1-48B9-4293-BF0C-81ECCA6BC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name on this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FFAE7-2E70-4471-ACBB-5FDABDB15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 status in your family. Do you have any brothers or sisters? Are you the youngest or oldest? Or in the middl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E4037-E69A-47C5-8E23-D2FFBD08C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 yourself to the reader. What color are your eyes, hair? Is it long, short, curly, straight, Are you short or tal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20035-99D7-4FF1-86CD-C6324246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what you like to do with your fri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7831C-E384-4CE7-A86A-38AA76199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1D672-4F92-499B-8F2F-A319C58A1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F080D-0FB0-401F-8D10-8F8AEDB77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something extra here. Do you play any sports? Have any interesting hobbies? Take any lesson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AF65A-3F8F-49B5-B020-4751F6537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A4D18-E5F5-4F84-8802-8DC81E43B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9BA-D325-4DA2-BB2B-A8E9DB83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DC0-22BF-4455-B823-519457B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09B-D5EC-4757-A7F1-C545931A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DE0-9836-46F6-A6ED-DCE26A4F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1FA-231C-4691-9D73-D89C01CA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F9D-4DE0-4063-AD7C-89BECFF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30C-31F3-46EF-BFF7-5FE0FB8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532-6B48-4870-9BF7-9BD6AEA2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ACF-FEE0-4703-8ECE-7A2B2CA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5B5-E127-4460-A97B-C95AD62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F0F-4682-4478-BA24-8DC0797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A2C-3BF3-43D4-88B2-76A06DD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EA623-372C-4955-B274-BD4AF19FF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9AF9C-AD90-49D5-A910-E2AF3FD32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a148ff"/>
                </a:solidFill>
                <a:latin typeface="Bauhaus 93"/>
                <a:ea typeface="Bauhaus 93"/>
              </a:rPr>
              <a:t>All About Me</a:t>
            </a:r>
            <a:r>
              <a:rPr b="0" lang="en-US" sz="7200" spc="-1" strike="noStrike">
                <a:solidFill>
                  <a:srgbClr val="ff0000"/>
                </a:solidFill>
                <a:latin typeface="Gill Sans Ultra Bold"/>
                <a:ea typeface="Gill Sans Ultra Bold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By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7a7ce"/>
                </a:solidFill>
                <a:latin typeface="Arial Black"/>
                <a:ea typeface="Arial Black"/>
              </a:rPr>
              <a:t>20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name is ???. I am in second grade. My birthday i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people in my family. I am the youngest, oldest, only, or middle chi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? eyes, ? hai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s and I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rite color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ods I enjoy most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am not at school I lik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4520" y="527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grow up I want to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4:51:16Z</dcterms:created>
  <dc:creator>Bensalem Township Scholl District</dc:creator>
  <dc:description/>
  <dc:language>en-US</dc:language>
  <cp:lastModifiedBy>TRALIES, MICHELE</cp:lastModifiedBy>
  <dcterms:modified xsi:type="dcterms:W3CDTF">2014-08-19T18:05:07Z</dcterms:modified>
  <cp:revision>9</cp:revision>
  <dc:subject/>
  <dc:title>All About Me </dc:title>
</cp:coreProperties>
</file>