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3F27D-9707-45A4-9E9E-92C3877A40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45333-86D8-4AC8-9C02-87A05A209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your name on this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9081F-9C23-44D7-8DAF-3F0AC783C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e your status in your family. Do you have any brothers or sisters? Are you the youngest or oldest? Or in the middl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3D222-AA8E-4C13-B807-CDCB2E5CF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e yourself to the reader. What color are your eyes, hair? Is it long, short, curly, straight, Are you short or tall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1C4EF-ECE8-4DA2-8EE4-803B7F74B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what you like to do with your fri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C9FE6-DEC5-4772-B7EC-46E7F9B9D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7B9D4-0CE8-47CE-B7BE-EC83AD6C2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C68CC-D849-4ED5-A081-E8BE8360E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something extra here. Do you play any sports? Have any interesting hobbies? Take any lesson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4B36C-5EEB-4A8B-B487-6342F2006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FA1CA-7BB4-40B6-A4B9-662B3A728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5D8-A8BF-4DF2-B393-F489B91B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532-4078-41CB-A341-377AD112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152-317D-40EB-967B-B2A32772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1A84-292E-44AE-895F-E95300FE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5691-183E-4E7C-9261-87666043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7E2-7DD4-4421-9261-DEE64F5E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2085-F832-4E4E-8E26-2E6427E0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F41D-C6B4-4BCF-8731-C5C52477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75CC-9683-4285-AD26-D12B11AA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8AC-EDE9-443A-94DA-654DEC88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896-63DD-41C8-AA7D-4EC1010B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12E-C9E4-410B-B5F2-B8E608DC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158F5-C1E7-4E37-877C-6BB7DB082C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D2ECA-2591-41CE-B3FB-BD7D806CE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a148ff"/>
                </a:solidFill>
                <a:latin typeface="Bauhaus 93"/>
                <a:ea typeface="Bauhaus 93"/>
              </a:rPr>
              <a:t>All About Me</a:t>
            </a:r>
            <a:r>
              <a:rPr b="0" lang="en-US" sz="7200" spc="-1" strike="noStrike">
                <a:solidFill>
                  <a:srgbClr val="ff0000"/>
                </a:solidFill>
                <a:latin typeface="Gill Sans Ultra Bold"/>
                <a:ea typeface="Gill Sans Ultra Bold"/>
              </a:rPr>
              <a:t>	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7a7ce"/>
                </a:solidFill>
                <a:latin typeface="Arial Black"/>
                <a:ea typeface="Arial Black"/>
              </a:rPr>
              <a:t>By 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7a7ce"/>
                </a:solidFill>
                <a:latin typeface="Arial Black"/>
                <a:ea typeface="Arial Black"/>
              </a:rPr>
              <a:t>20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name is ???. I am in second grade. My birthday i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? people in my family. I am the youngest, oldest, only, or middle chi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? eyes, ? hair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s and I lik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avorite color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ods I enjoy most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 am not at school I lik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452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 grow up I want to b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4:51:16Z</dcterms:created>
  <dc:creator>Bensalem Township Scholl District</dc:creator>
  <dc:description/>
  <dc:language>en-US</dc:language>
  <cp:lastModifiedBy>TRALIES, MICHELE</cp:lastModifiedBy>
  <dcterms:modified xsi:type="dcterms:W3CDTF">2014-08-19T18:05:07Z</dcterms:modified>
  <cp:revision>9</cp:revision>
  <dc:subject/>
  <dc:title>All About Me </dc:title>
</cp:coreProperties>
</file>