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9F4CF-4923-4767-A958-3CEFA8C767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37DC5-8487-454D-BA1A-E49562940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your name on this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ABA21-4D42-4CE7-8CD2-0B15046E4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e your status in your family. Do you have any brothers or sisters? Are you the youngest or oldest? Or in the middl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4790F-8F09-4338-8DC7-901F930A8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e yourself to the reader. What color are your eyes, hair? Is it long, short, curly, straight, Are you short or tall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AD253-F3A7-4C2D-8A00-C31175B5D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what you like to do with your fri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EAA9D-6FD5-496C-BCCA-71A2C920F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9A98E-72CD-4DCA-A355-DB5CEC349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51F34-C064-40A7-B52D-231975963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something extra here. Do you play any sports? Have any interesting hobbies? Take any lesson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E9CDD-45E8-49D3-BBB0-1CE1E3C98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02133-F8E9-4F6F-89F3-459ADE5F9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4087-5BEE-4B19-AA21-3B34C4DE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8E5-7E18-4C90-9AD2-E1DE81BE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C0E-E5AA-478A-B9DD-01FEB14D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4431-D37D-46AA-9EBF-DB9C9C72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B2D-0B21-4EF7-8D00-F37A183D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7FD-C1B7-4B5D-B965-997DE76A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F667-43E1-4060-BAB0-BE243E3E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F753-3B48-4F07-87B6-588C91C8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A08-57AD-437E-B870-72B29A9C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D37-3F21-402B-8EE3-96B2177B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6ECD-1AE5-4AD5-86F0-A95D3CF9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25E6-46E9-4ECC-8AFD-0530E0E6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56BF7-2BC5-4389-B47D-FBA147588F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39FAD-262C-4C19-AFDA-0C930894B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a148ff"/>
                </a:solidFill>
                <a:latin typeface="Bauhaus 93"/>
                <a:ea typeface="Bauhaus 93"/>
              </a:rPr>
              <a:t>All About Me</a:t>
            </a:r>
            <a:r>
              <a:rPr b="0" lang="en-US" sz="7200" spc="-1" strike="noStrike">
                <a:solidFill>
                  <a:srgbClr val="ff0000"/>
                </a:solidFill>
                <a:latin typeface="Gill Sans Ultra Bold"/>
                <a:ea typeface="Gill Sans Ultra Bold"/>
              </a:rPr>
              <a:t>	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7a7ce"/>
                </a:solidFill>
                <a:latin typeface="Arial Black"/>
                <a:ea typeface="Arial Black"/>
              </a:rPr>
              <a:t>By 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7a7ce"/>
                </a:solidFill>
                <a:latin typeface="Arial Black"/>
                <a:ea typeface="Arial Black"/>
              </a:rPr>
              <a:t>20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name is ???. I am in second grade. My birthday i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? people in my family. I am the youngest, oldest, only, or middle chi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? eyes, ? hair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s and I lik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avorite color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ods I enjoy most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 am not at school I lik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452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 grow up I want to b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4:51:16Z</dcterms:created>
  <dc:creator>Bensalem Township Scholl District</dc:creator>
  <dc:description/>
  <dc:language>en-US</dc:language>
  <cp:lastModifiedBy>TRALIES, MICHELE</cp:lastModifiedBy>
  <dcterms:modified xsi:type="dcterms:W3CDTF">2014-08-19T18:05:07Z</dcterms:modified>
  <cp:revision>9</cp:revision>
  <dc:subject/>
  <dc:title>All About Me </dc:title>
</cp:coreProperties>
</file>