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20F-8F24-4C0D-B6B2-0C436356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75C-0C6E-427D-B125-B296DF8F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560-D014-40D6-B255-F24C11B8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D19-95EE-4A65-82EE-9A1C324E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018-C078-40E5-BE7B-4D353CB9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584-23F4-4A20-B8E3-9787592F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E387-5CBB-4ABF-B52E-5F22D692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3DD-C7C3-451E-BD5C-B114DEEB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4B3-5A9A-454B-8CBB-65516FBE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216-2577-4D2F-BF52-8EB5D0BE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886-8411-4B19-86EC-B5C3800A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3A4-C260-4721-ABAD-4116F25F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4AE9-7376-4449-991D-F6E467968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look Lik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Do Not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Am Proud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m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8:46:32Z</dcterms:created>
  <dc:creator>Bensalem Twp School District</dc:creator>
  <dc:description/>
  <dc:language>en-US</dc:language>
  <cp:lastModifiedBy>TRALIES, MICHELE</cp:lastModifiedBy>
  <dcterms:modified xsi:type="dcterms:W3CDTF">2014-08-19T18:04:14Z</dcterms:modified>
  <cp:revision>7</cp:revision>
  <dc:subject/>
  <dc:title>All About Me</dc:title>
</cp:coreProperties>
</file>