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038-07F9-43B5-84C8-30D7148F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65B-8B41-484F-B743-CF59F7D2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6A5-589F-4FB9-8EE6-79E85CB3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556-7D84-4358-8BD8-9F0FF2C4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7FD-418B-4D0B-AD11-E0F22AD5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822-2638-4033-B86A-5AEC0770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282-97C9-41D8-92EA-4932A59D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9D71-768F-416A-8A6D-902470DB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226-AF82-4AE8-BA34-87BDDF5A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637-66D3-4602-9DB6-6FC7EA7E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04C-07F4-4CC1-9684-FA4BE0CA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9D0-EAA9-410D-893A-1A147AC8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5722-00A5-48AE-A434-7E2D2AC2F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look Lik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Do Not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Am Proud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m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8:46:32Z</dcterms:created>
  <dc:creator>Bensalem Twp School District</dc:creator>
  <dc:description/>
  <dc:language>en-US</dc:language>
  <cp:lastModifiedBy>TRALIES, MICHELE</cp:lastModifiedBy>
  <dcterms:modified xsi:type="dcterms:W3CDTF">2014-08-19T18:04:14Z</dcterms:modified>
  <cp:revision>7</cp:revision>
  <dc:subject/>
  <dc:title>All About Me</dc:title>
</cp:coreProperties>
</file>