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229-7535-490E-8D00-BAACB673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FFE-3649-47A0-9A20-AF8FAD0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C61-940A-4A60-B690-42CC84FA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122-0AF8-4375-901B-441A4751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E57-772B-4145-9E8A-58000726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470-1F4B-4E97-BCEF-B5440DDC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81B-5182-4603-BFA3-6F83B6A3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DC9-7B46-4ABA-9994-12E137C7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596-6552-4E68-AC3D-54ECD92C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4FC-480C-46FB-94EA-436B5568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4EC-AA61-443E-B46D-49A20CE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2F7-8AE7-419B-8E25-9E05211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6CA-91EA-468B-A62F-2CC6FA09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ook Lik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Do Not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Am Proud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46:32Z</dcterms:created>
  <dc:creator>Bensalem Twp School District</dc:creator>
  <dc:description/>
  <dc:language>en-US</dc:language>
  <cp:lastModifiedBy>TRALIES, MICHELE</cp:lastModifiedBy>
  <dcterms:modified xsi:type="dcterms:W3CDTF">2014-08-19T18:04:14Z</dcterms:modified>
  <cp:revision>7</cp:revision>
  <dc:subject/>
  <dc:title>All About Me</dc:title>
</cp:coreProperties>
</file>