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D35-0D2D-4FAD-AA71-2559531A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675-F2CF-4727-BF98-70BF1FE8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3AD-0433-4000-AF75-3FC11F08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83D-35B4-49C6-B213-19570F6B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B3F-945E-446A-9F9E-40ACC8C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8CB-EC25-4A91-AD48-21220C0E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B4B-5027-466E-83E0-04F0A4D0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7AB-F770-4C4F-9814-74D9944C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C50-9475-47D1-86F0-17E93F8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5D3-9AA3-49DC-86CB-7A1BA792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38C-4330-42E6-B8A6-04AF30D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4DF-7302-43D4-B29B-F100B0F0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AE71-8293-4DB1-921B-96342837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ook Lik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Do Not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Am Proud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46:32Z</dcterms:created>
  <dc:creator>Bensalem Twp School District</dc:creator>
  <dc:description/>
  <dc:language>en-US</dc:language>
  <cp:lastModifiedBy>TRALIES, MICHELE</cp:lastModifiedBy>
  <dcterms:modified xsi:type="dcterms:W3CDTF">2014-08-19T18:04:14Z</dcterms:modified>
  <cp:revision>7</cp:revision>
  <dc:subject/>
  <dc:title>All About Me</dc:title>
</cp:coreProperties>
</file>