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812F2-7F32-46CC-A1E4-8D6B40281B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90511-B95E-44A3-9EDC-FCEB3DABB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your name on this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0A132-9F1B-4B64-B098-8F6B195A8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be your status in your family. Do you have any brothers or sisters? Are you the youngest or oldest? Or in the middle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8982A-99EB-4DBC-A172-1B6A047CB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be yourself to the reader. What color are your eyes, hair? Is it long, short, curly, straight, Are you short or tall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9D702-AD21-4AF1-8812-2A56955DE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what you like to do with your fri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1DFA0-8B4F-4AEA-A8E7-FF0897B2D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35CED-8996-4215-B691-43A9A33D2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98C01-1387-4DD1-9B58-F317CC1E0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something extra here. Do you play any sports? Have any interesting hobbies? Take any lessons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19F2C-A836-4145-9337-E8AE95B4F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36691-E3A9-4405-8367-AC173F203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F5C-E519-40C7-9EA2-304AB8DC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411-465F-4773-8DA4-DF63C047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A500-A465-48B8-A14B-082FEBBD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2CAD-5513-4668-A432-0A6BF123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BCB-2DC0-4589-92BD-8E691668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1A2-E9E2-43A9-A4F1-59423CDB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97B4-2CD8-427C-AAE6-5B754AD7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E8F1-19AA-4002-AAF3-01DC3EB8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C20A-D028-493B-8EB4-BF7D0887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427-B7FB-47A6-9026-54ED355A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8A6-4EFE-4DEF-81FD-915AF338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1F18-6E2F-49E8-A45E-5077F000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BCED8-6ACC-4322-A9E1-BDB7194BA0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6860F-E23C-4354-BC26-0333312D3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a148ff"/>
                </a:solidFill>
                <a:latin typeface="Bauhaus 93"/>
                <a:ea typeface="Bauhaus 93"/>
              </a:rPr>
              <a:t>All About Me</a:t>
            </a:r>
            <a:r>
              <a:rPr b="0" lang="en-US" sz="7200" spc="-1" strike="noStrike">
                <a:solidFill>
                  <a:srgbClr val="ff0000"/>
                </a:solidFill>
                <a:latin typeface="Gill Sans Ultra Bold"/>
                <a:ea typeface="Gill Sans Ultra Bold"/>
              </a:rPr>
              <a:t>	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7a7ce"/>
                </a:solidFill>
                <a:latin typeface="Arial Black"/>
                <a:ea typeface="Arial Black"/>
              </a:rPr>
              <a:t>By 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7a7ce"/>
                </a:solidFill>
                <a:latin typeface="Arial Black"/>
                <a:ea typeface="Arial Black"/>
              </a:rPr>
              <a:t>20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name is ???. I am in second grade. My birthday i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? people in my family. I am the youngest, oldest, only, or middle chi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? eyes, ? hair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s and I lik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avorite color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ods I enjoy most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 am not at school I lik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452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 grow up I want to b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4:51:16Z</dcterms:created>
  <dc:creator>Bensalem Township Scholl District</dc:creator>
  <dc:description/>
  <dc:language>en-US</dc:language>
  <cp:lastModifiedBy>TRALIES, MICHELE</cp:lastModifiedBy>
  <dcterms:modified xsi:type="dcterms:W3CDTF">2014-08-19T18:05:07Z</dcterms:modified>
  <cp:revision>9</cp:revision>
  <dc:subject/>
  <dc:title>All About Me </dc:title>
</cp:coreProperties>
</file>