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92824-138C-4613-8A54-6065ABC1C7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867A78-5EFE-4683-BD07-B16E89A7E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your name on this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5E4F32-6384-4AAA-8FAE-B079EFDF2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be your status in your family. Do you have any brothers or sisters? Are you the youngest or oldest? Or in the middle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E2DE7-8158-4AC5-8D0E-1AB069646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be yourself to the reader. What color are your eyes, hair? Is it long, short, curly, straight, Are you short or tall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DE4405-CBB2-488D-83D0-681E8C8B3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what you like to do with your fri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3EBCB-C70A-4FD8-AAD6-BDEFBE81B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FE28A-F064-4EC3-89D3-A766EEE9A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1390E-C6DD-408F-AC0F-5CCE9FA09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something extra here. Do you play any sports? Have any interesting hobbies? Take any lessons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CFDE4-6F5A-4D33-B8BF-FB3A95CB4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9E9D37-F61D-40AF-BEEE-580BFBD02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E61-B08F-4DB3-855D-627B0749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35A-F3EF-4ED6-8041-F0538624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FE6-1ACA-4860-A1ED-3E0EB3EF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0E31-F150-41DD-BF76-EE285399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392-D6E9-4ACB-9DA5-2CA0A915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8033-5120-4955-90EC-98A44089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438A-0C62-44D5-ADE4-2D63B5E4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1E3-4748-425F-B2AF-F7826109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C23-67E3-4FDE-A5BE-E4B0BCBB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A1BB-E702-4C01-8335-0E1942E3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5F89-FB70-40B2-98D6-E8612502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F231-7793-4ED3-AF71-50BB405A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9CD15-FF31-4953-B077-E5D7CD6FC0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1DC07-5112-49F8-A90D-560EB5F99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a148ff"/>
                </a:solidFill>
                <a:latin typeface="Bauhaus 93"/>
                <a:ea typeface="Bauhaus 93"/>
              </a:rPr>
              <a:t>All About Me</a:t>
            </a:r>
            <a:r>
              <a:rPr b="0" lang="en-US" sz="7200" spc="-1" strike="noStrike">
                <a:solidFill>
                  <a:srgbClr val="ff0000"/>
                </a:solidFill>
                <a:latin typeface="Gill Sans Ultra Bold"/>
                <a:ea typeface="Gill Sans Ultra Bold"/>
              </a:rPr>
              <a:t>	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7a7ce"/>
                </a:solidFill>
                <a:latin typeface="Arial Black"/>
                <a:ea typeface="Arial Black"/>
              </a:rPr>
              <a:t>By 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7a7ce"/>
                </a:solidFill>
                <a:latin typeface="Arial Black"/>
                <a:ea typeface="Arial Black"/>
              </a:rPr>
              <a:t>20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name is ???. I am in second grade. My birthday i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? people in my family. I am the youngest, oldest, only, or middle chi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? eyes, ? hair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s and I lik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avorite color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ods I enjoy most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 am not at school I lik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452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 grow up I want to b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4:51:16Z</dcterms:created>
  <dc:creator>Bensalem Township Scholl District</dc:creator>
  <dc:description/>
  <dc:language>en-US</dc:language>
  <cp:lastModifiedBy>TRALIES, MICHELE</cp:lastModifiedBy>
  <dcterms:modified xsi:type="dcterms:W3CDTF">2014-08-19T18:05:07Z</dcterms:modified>
  <cp:revision>9</cp:revision>
  <dc:subject/>
  <dc:title>All About Me </dc:title>
</cp:coreProperties>
</file>