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035-A6F9-4C66-B225-49A36B6E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A36-3E9F-4495-A1DB-BFFB2EDB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DE2F-0BF7-4A79-B23E-568D0EEE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4F33-07CC-478B-839B-2B6FB109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310-DDCB-4099-A53B-083C042A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3897-B45D-4FFB-9D14-60DB1014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E050-B73F-4ED4-9857-EEAB301C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4E2-B774-4A4E-8395-67338738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4E9-507A-4EBC-969B-A438A93E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490-3908-476C-B8D7-B24E6306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6D1-709C-4692-9F6A-A7B0A8EE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F1EE-D347-4FEE-A2DC-0CCF2496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4894-A6A8-4234-B164-DD7E0D281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About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look Lik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Do Not 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Am Proud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m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8:46:32Z</dcterms:created>
  <dc:creator>Bensalem Twp School District</dc:creator>
  <dc:description/>
  <dc:language>en-US</dc:language>
  <cp:lastModifiedBy>TRALIES, MICHELE</cp:lastModifiedBy>
  <dcterms:modified xsi:type="dcterms:W3CDTF">2014-08-19T18:04:14Z</dcterms:modified>
  <cp:revision>7</cp:revision>
  <dc:subject/>
  <dc:title>All About Me</dc:title>
</cp:coreProperties>
</file>