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09C-51B0-4D43-81D8-ADDB9A23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2F2-CB6F-41E5-ACD3-DB7A2FE0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F9A-09AC-4077-B227-0237EAAD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7DF-C52C-4E80-88D9-B30D1BD8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6EC-63F4-408F-AB1F-C1DEC37B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E9D-B318-4245-B1EC-579F1293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A35-77FC-482B-A3B5-66C78711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302-9902-4070-81F5-0D63CAF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A67-5175-44E0-AEA8-071CD4A4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869-FDD8-4A07-A1E6-BA36555A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4A5-9E87-4DFE-86A9-8B15BE75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148-862D-47DD-AE22-666EAA85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1A12-676D-42A3-93BC-1AEEC6074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ook Lik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Do Not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Am Proud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8:46:32Z</dcterms:created>
  <dc:creator>Bensalem Twp School District</dc:creator>
  <dc:description/>
  <dc:language>en-US</dc:language>
  <cp:lastModifiedBy>TRALIES, MICHELE</cp:lastModifiedBy>
  <dcterms:modified xsi:type="dcterms:W3CDTF">2014-08-19T18:04:14Z</dcterms:modified>
  <cp:revision>7</cp:revision>
  <dc:subject/>
  <dc:title>All About Me</dc:title>
</cp:coreProperties>
</file>